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E65E6-1863-4504-9FE2-64BCE1CFA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B23B98-7423-4CB0-9420-2CDB6BF2B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D6F87-CB13-4AFE-AFD5-03B56C178FC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E380E-22B5-473D-804E-2F54CDFD044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5F4C6-D93F-4674-8594-2B4D8BB8DD7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A74F-1529-455C-A4BD-A5C50747FF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E2B2B-AE1C-4E67-86AB-835DA80C298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804A-7EB3-4844-AEE1-517CE4C857E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8286-3AE5-4C59-858B-841DA503A53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9CAD-DADD-4FAF-BBFE-07CAF1FE1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AEE5-97D6-4162-84ED-11310E979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3F14-34EF-4D42-AB20-508C4C92E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C541-9375-4B1D-9E87-5CAA6EF37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B5E5-2C15-4DC3-8BA4-AF95DF00D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DBB0-C238-4942-B8FA-32056861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E948-23F8-4499-BCA8-DCC5B2C67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DD4F-2927-4287-ADCA-04B48ED68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1049-86FF-4D53-BADB-26CB897AB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E0E6-4B21-42E4-B808-5E2F6F210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2095-0EF7-4CBC-A66A-60D3B2E77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E67B-721A-4B1B-A123-95B4ED25C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9A6C-E4C6-4EC7-846D-FA991674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1447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4" name="Picture 12" descr="logo-rotunda"/>
          <p:cNvPicPr/>
          <p:nvPr/>
        </p:nvPicPr>
        <p:blipFill>
          <a:blip r:embed="rId2"/>
          <a:stretch/>
        </p:blipFill>
        <p:spPr>
          <a:xfrm>
            <a:off x="685800" y="60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vee@virginia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FD86-A546-4578-BC1F-D44874C6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of NSF OCI EAGER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SF OCI SDCI pro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ie Li, Zhengyang Liu, and Malathi Veeraraghav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y of Virgin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Comic Sans MS"/>
                <a:hlinkClick r:id="rId1"/>
              </a:rPr>
              <a:t>{jl3yh, zl4ef, mvee}@virgini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ch 22,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33720" y="5176800"/>
            <a:ext cx="571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his work was carried out as part of NSF sponsored research projects, OCI-1038058 and OCI-1127340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1B67-BA08-4165-BB62-4F266A1D6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457200" y="15238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transfers from NERSC DTN servers that &gt; 100 MB in one month (Sept. 2010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tal number of transfers: 124236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ridFTP usage statist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5" name="Picture 33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72280" cy="28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324080" y="6183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Brent Draney, Jing Tie and Ian Foster for the GridFT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RSC data session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tained NERSC data from Globus (Ian Fost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age stats reported to Globus does not include dest IP address (privacy reas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not group transfers into se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to have them assign someone to run our analysis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108E-0657-489E-B81B-A140EE32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age of dynamic V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ercentage of sessions are long-lived even if rate of the transfers is assumed to be hi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 dynamic VCs can be set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VC setup delay should be reduc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namic VCs important for inter-domain science fl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net – Hurricane Electric exper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C24D-F95F-446F-A2EC-0D8A111ED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AC and NCAR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9024-B57A-497A-9798-42F5B823C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4AD-39D5-4E8E-9C37-4AD031DB2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were 145 file transfers of size 32 GB to ORNL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round-trip time (RTT), bottleneck link rate and packet loss rate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QR (Inter-quartile range) measure of variance is 695 Mbp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an explanation for this varianc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543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 causes of throughput vari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characteristic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TT, bottleneck link rate, packet loss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ri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arallel TCP str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-of-day depen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current GridFTP trans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ink utilization (SNMP dat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PU usage, I/O usage on servers at the two 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548-DEA9-4B2A-97E7-161658574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03" name="Straight Arrow Connector 2"/>
          <p:cNvCxnSpPr/>
          <p:nvPr/>
        </p:nvCxnSpPr>
        <p:spPr>
          <a:xfrm>
            <a:off x="685440" y="152352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4" name="TextBox 3"/>
          <p:cNvSpPr/>
          <p:nvPr/>
        </p:nvSpPr>
        <p:spPr>
          <a:xfrm rot="16200000">
            <a:off x="-481320" y="212220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me fo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45 transf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ime-of-day depende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ERSC 32 GB: same path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Content Placeholder 5" descr="timeofday-throughput-32G.png"/>
          <p:cNvPicPr/>
          <p:nvPr/>
        </p:nvPicPr>
        <p:blipFill>
          <a:blip r:embed="rId1"/>
          <a:stretch/>
        </p:blipFill>
        <p:spPr>
          <a:xfrm>
            <a:off x="3049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B4C0-A541-44C4-8990-A69156ACD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5257800" y="24382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ets of transfers: 2 AM and 8 AM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r throughput levels on some 2 AM transfers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variance even among same time-of-day flow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p. on concurrent transfers: Predicted throughpu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ADD-48F5-4388-B176-C3E3A14B2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1" name="Picture 3" descr="step.png"/>
          <p:cNvPicPr/>
          <p:nvPr/>
        </p:nvPicPr>
        <p:blipFill>
          <a:blip r:embed="rId1"/>
          <a:stretch/>
        </p:blipFill>
        <p:spPr>
          <a:xfrm>
            <a:off x="168768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116680" y="2514600"/>
            <a:ext cx="247644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Content Placeholder 2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nd number of concurrent transfers from GridFTP logs for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32 GB GridFTP transfer: NERSC end only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predicted throughpu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uration of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nsfer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number of concurrent transfers in 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terval of ith transfer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e on concurrent transfers (NERSC 32 GB transf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Content Placeholder 7" descr="predicted-throughput-by-transfer.png"/>
          <p:cNvPicPr/>
          <p:nvPr/>
        </p:nvPicPr>
        <p:blipFill>
          <a:blip r:embed="rId1"/>
          <a:stretch/>
        </p:blipFill>
        <p:spPr>
          <a:xfrm>
            <a:off x="380880" y="14698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D70D-B23A-45D5-8114-93B12D889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17" name="Picture 8" descr="predicted-throughput-by-transfer-zoom1.png"/>
          <p:cNvPicPr/>
          <p:nvPr/>
        </p:nvPicPr>
        <p:blipFill>
          <a:blip r:embed="rId2"/>
          <a:stretch/>
        </p:blipFill>
        <p:spPr>
          <a:xfrm>
            <a:off x="4923000" y="1469880"/>
            <a:ext cx="2697120" cy="269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redicted-throughput-by-transfer-zoom2.png"/>
          <p:cNvPicPr/>
          <p:nvPr/>
        </p:nvPicPr>
        <p:blipFill>
          <a:blip r:embed="rId3"/>
          <a:stretch/>
        </p:blipFill>
        <p:spPr>
          <a:xfrm>
            <a:off x="4923000" y="4038480"/>
            <a:ext cx="2705040" cy="2705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857600" y="5699160"/>
            <a:ext cx="31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orrelation seen for some transfers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But overall correlation low (0.03)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expl: Other apps besides GridFTP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cxnSp>
        <p:nvCxnSpPr>
          <p:cNvPr id="120" name="Straight Arrow Connector 12"/>
          <p:cNvCxnSpPr/>
          <p:nvPr/>
        </p:nvCxnSpPr>
        <p:spPr>
          <a:xfrm flipV="1">
            <a:off x="3965400" y="3183840"/>
            <a:ext cx="958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 flipV="1">
            <a:off x="3965400" y="5409720"/>
            <a:ext cx="9583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Freeform 22"/>
          <p:cNvSpPr/>
          <p:nvPr/>
        </p:nvSpPr>
        <p:spPr>
          <a:xfrm>
            <a:off x="1477800" y="5369040"/>
            <a:ext cx="2332080" cy="1390680"/>
          </a:xfrm>
          <a:custGeom>
            <a:avLst/>
            <a:gdLst>
              <a:gd name="textAreaLeft" fmla="*/ 0 w 2332080"/>
              <a:gd name="textAreaRight" fmla="*/ 2332440 w 23320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2332418" h="1390885">
                <a:moveTo>
                  <a:pt x="2332418" y="1069552"/>
                </a:moveTo>
                <a:cubicBezTo>
                  <a:pt x="2179464" y="1169466"/>
                  <a:pt x="1912955" y="1390885"/>
                  <a:pt x="1570293" y="1375659"/>
                </a:cubicBezTo>
                <a:cubicBezTo>
                  <a:pt x="1227631" y="1360433"/>
                  <a:pt x="538162" y="1207473"/>
                  <a:pt x="276446" y="978196"/>
                </a:cubicBezTo>
                <a:cubicBezTo>
                  <a:pt x="14731" y="748920"/>
                  <a:pt x="1772" y="40315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lation with SNM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95320" y="3533400"/>
            <a:ext cx="777240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t SNMP data for ESnet links on NERSC-ORNL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NMP raw byte counts: 30 sec po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GridFTP bytes uniformly distributed ove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GridFTP bytes dominate and are not affected by other transfers – consistent with alpha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Cs may not solve throughput vari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BB6D-76F1-4E8F-ACA9-8FAD159FB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662920" y="618336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Jon Dugan for the SNMP data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439092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781520" y="1990800"/>
            <a:ext cx="4362480" cy="154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658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NMP reported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5088600" y="1447920"/>
            <a:ext cx="39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rrelation between GridFTP bytes and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low bytes 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54A-B5C2-4F3B-B516-60510AAFA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ill pending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varianc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the NERSC-ORNL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SNMP data for links inside NERSC and inside ORN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CPU and I/O usage data at the two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belief: cause of variance is file system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ing nodes write to file systems while DTNs read fil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with Brent Draney and Jason Hick, NERSC, and Galen Shipman, ORNL, for sit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E53F-4C1B-4B4D-872B-7307CDA9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oughput varia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240" y="52578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 dependence on number of stri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reduced number of servers from 3 to 1 in 2009-2011 peri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0B8-0682-4807-8E8E-F0DED905F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43000" y="1508040"/>
            <a:ext cx="683100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a set of controlled experiments on ANI testbed and experiment with tools for obtaining CPU usage and disk I/O (file system) usage measurements for regression analysis with GridFTP transfer throughp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ment servers at sites and collect data to explain causes of var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RSC-ORNL: Jason Hick and Galen Shipm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: Yee Ting Li and Scott Bradl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: John Dennis and Victor Hazel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4121-7DC1-4C80-B450-ECD054E2B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CESM scientists’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67A-0813-4B93-92D5-BB5DE2B2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2D2-E117-460F-BA8C-4104D3B9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3320" y="1219320"/>
            <a:ext cx="7724880" cy="5638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 rot="16200000">
            <a:off x="6188040" y="3311640"/>
            <a:ext cx="4788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 DOE PI meeting, March 1-2, 2012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66120" cy="74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48.6ms RTT, 97.9Gbps aggregate TCP throughput with 10 TCP stre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4960" y="2616120"/>
            <a:ext cx="8074080" cy="3187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Work done by Eric Pouyol and Brian Tierney, ESnet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660680"/>
            <a:ext cx="8758080" cy="4341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676520" y="6000840"/>
            <a:ext cx="62481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Gill Sans"/>
              </a:rPr>
              <a:t>Brian Tierney’s DOE PI meeting talk, March 1-2, 2012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VA’s ANI testbed experiments to d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idFTP, iperf and nuttcp transfers between NERSC and ANL (up to 30 Gbps; difficult to reserve whole testb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U usage becomes the limiting factor of throughput under high bandwid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client utilizes 100% CPU when throughput is 5.4Gbps; need second 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erf and nuttcp: 34% CPU for 9.4 Gb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FB13-29C8-4AAE-94DC-EF4F5CDD6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fast option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ta size: 128 MB to 8G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1640" y="1599840"/>
            <a:ext cx="783576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-fast” option of GridFTP relieves pressure on CPU on client side (still reaches 100% on server side when throughput reaches 9.4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: need to experiment with RNICs and verbs interface (TCP/IP in O/S consumes CPU cycl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87320" y="3753000"/>
            <a:ext cx="3579840" cy="2152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1295280" y="6137280"/>
            <a:ext cx="3313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CPU Usage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4940280" y="3753000"/>
            <a:ext cx="3597120" cy="2160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5081760" y="6137280"/>
            <a:ext cx="3311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Gill Sans"/>
              </a:rPr>
              <a:t>Throughput (memory-to-memory transfer, NERSC-ANL)</a:t>
            </a:r>
            <a:endParaRPr b="1" lang="en-US" sz="1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 100G testbed experi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ed for March 23, 201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CE across WAN: Bob Russell’s programs for latency, throughput, CPU utiliz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dFTP with U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42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erbs interface module to GridFTP (UN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3672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GridFTP across RoCE (nersc-diskpt3 to anl-mempt3) with wide-area V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b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M. Manley and S. Emmerson, “Analysis and selection of a network service for a scientific data distribution project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. Li, M. Veeraraghavan, “A Reliable Message Multicast Transport Protocol for Virtual Circuits,” Proc. IEEE CMC 2012, Ma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Liu, M. Veeraraghavan, Z. Yan, C. Tracy, J. Tie, I. Foster and J. Dennis, “Science traffic characterization and network service selection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. Yan, C. Tracy, M. Veeraraghavan, “A Hybrid Network Traffic Engineering System,” submitted to IEEE HPSR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53BB-30F7-43F6-8199-1E3A0C46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ed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S API: UNH (Russel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CI: ORNL (Atchley, Shipm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TS: Ohio State Univ (DK Pand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SP: Delaware/IU (Kissel/Swan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DT and TCP/IP: IPoIB and SD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BD0-D634-4AED-A2E4-5FC245F6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ra-datacenter 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arver or Lawrencium, NERSC, and Cray (krake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 clusters, and Seastar, Gemini interconn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will develop plan for data collection, and instr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CAR will run CESM apps and benchma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VA will analyz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H is developing course mo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A33-A9A7-4FAB-AEFA-BE56A7D5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6F19-7E45-4C28-AFD8-C9085397D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GER project motiv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cientific data sets are increasingly distributed to geographically dispersed research organizations/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types of network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-routed service vs. Virtual circu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cast vs.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best network service for scientific data distribu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F858-48C1-4C92-9F4F-D3E142B6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-routed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biquit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reliable data delivery using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s a dedicated circuit between two or more endpoints for a pre-specified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 circuit service (D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to any other DCS subscriber for rate-guaranteed communications for specified du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earch-and-education network (REN) and commercial providers now offer dynamic circuit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EAA-7F13-4045-A4EB-D77C70CEA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Data Distribution (ID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eorology data distribution project run by the University Corporation for Atmospheric Research (UC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r real-time data distribution system to over 160 instit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called Local Data Manager (LDM) is used for data 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30 types of scientific data products (feedtypes) are distributed using LD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229-30E9-4FFC-AF60-A0CE1EE6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CONDUIT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66680" y="5375160"/>
            <a:ext cx="757728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size per day: ~60 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throughput: 250 MB per minute (33.3 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than 2% of silence periods are larger than 1 seco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F5F9-A418-4446-98ED-A05F1339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87" name="Picture 5" descr="CONDUIT.png"/>
          <p:cNvPicPr/>
          <p:nvPr/>
        </p:nvPicPr>
        <p:blipFill>
          <a:blip r:embed="rId1"/>
          <a:stretch/>
        </p:blipFill>
        <p:spPr>
          <a:xfrm>
            <a:off x="871560" y="1676520"/>
            <a:ext cx="75866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DUIT Distribution Top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66680" y="5257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4 receivers are directly connected to the UCAR IDD servers (the maximum fan-out nu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104 * 33.3 Mbps = 3.5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190-44D3-47DF-A0AF-D6BDAE8F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1" name="Picture 6" descr="CONDUIT_topology.png"/>
          <p:cNvPicPr/>
          <p:nvPr/>
        </p:nvPicPr>
        <p:blipFill>
          <a:blip r:embed="rId1"/>
          <a:stretch/>
        </p:blipFill>
        <p:spPr>
          <a:xfrm>
            <a:off x="380880" y="1625760"/>
            <a:ext cx="4419720" cy="34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5029200" y="213372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 of the NEXRAD2 Feedty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360" y="5181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size per day: ~56 G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throughput: 58 MB/minute (7.8 Mbp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ll silence periods are less than 1 seco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7F73-59B4-4291-9428-435B5E30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196" name="Picture 4" descr="NEXRAD2.png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RAD2 Distribution Topolog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922-7783-411E-A9F5-3A7E13E6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320" y="51811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D servers at UCAR directly deliver NEXRAD2 data to 55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ndwidth requirement: 55 * 7.8 Mbps = 429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029200" y="2514600"/>
          <a:ext cx="3787920" cy="2103480"/>
        </p:xfrm>
        <a:graphic>
          <a:graphicData uri="http://schemas.openxmlformats.org/drawingml/2006/table">
            <a:tbl>
              <a:tblPr/>
              <a:tblGrid>
                <a:gridCol w="2568600"/>
                <a:gridCol w="1219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met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number of  Distinct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Send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Receiver Host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. Fan-out Number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7" descr="NEXRAD2_topology.gif"/>
          <p:cNvPicPr/>
          <p:nvPr/>
        </p:nvPicPr>
        <p:blipFill>
          <a:blip r:embed="rId1"/>
          <a:stretch/>
        </p:blipFill>
        <p:spPr>
          <a:xfrm>
            <a:off x="304920" y="1684440"/>
            <a:ext cx="44956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GridFTP usage statistics to answer two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 high-throughput file transfer sessions long enough to justify VC setup delay (current number: 1 min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AR and SLA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 throughput and 10 mins for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roughput variance caused by competing IP-routed network traff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o, VCs useful to guarantee rate for science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RSC data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186-1E52-4695-BABF-8D4ED35C3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network service used by I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over IP-routed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products are effectively sent to the receivers in a round-robin fas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s: service is ubiquitou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: requires UCAR to run 9 servers for IDD; uses 5 Gbps of its access link; data delivery latency sensitive to the number of recei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2399-0D04-4D07-B083-F2815927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unicast virtual circui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be good for NEXRAD2, but bad for CONDUIT due to its burstin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tilization will be poor if circuit rates are chosen to be high to keep latency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ircuit servi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CS can be scheduled for the CONDUIT bursty peri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the silence periods are too short (mostly less than 1 second) for circuits to be scheduled and set up for use (setup delay ~1 min in today’s REN offering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2FB7-CA6E-484E-8775-74751183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ection of A Suitable Network Service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virtual circui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IP multicast, no potential data-plane congestion in rate-guaranteed 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gative acknowledgements (NACKs) us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cket loss due to receive buffer overflows or bit errors will be handled at the end of the multica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for high-speed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hypothesis: the throughput for most receivers in a VC multicast group can be independent of the throughput experienced by some slow receivers that incur retrans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905-D7EC-4399-A2D2-DE5D16C38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2P vs. multica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requires more than one transfer for most of the blo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cast requires one transfer + retransmissions for lost blocks (small percent with real-time schedu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2P suitable if file is already available in multiple nodes, but in IDD, files are available only at a single node in the beginning and needs to be distributed quickly before next arriv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F1B1-3BDA-4073-8EF2-B8F00726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DCI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nalysis of scientists’ file transfer lo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Gbps testing from NERSC to ANL on ANI testb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r ANI 100G testbed experi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going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GER Project Re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sis and selection of a network service for the UCAR scientific data distribution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 and implementation of the Virtual Circuit Multicast Transport Protocol (VCMT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ES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765-41A0-490D-9958-9B1DBB99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quirements for VCMT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,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ulticast group should support hundreds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: one slow receiver that incurs retransmissions will not decrease the throughput for all rece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635-2E32-4919-8ED1-C0D54F03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Key Design Concep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high-speed transfers, multicast whole file before handling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ture version: relax to allow fast senders or fast receivers to run retransmission thread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VCMTP sender/receiver processes in high-priority mode (SCHED_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eases receive buffer overflow lo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ast TCP connections for retrans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ative Acknowledgement (NACK) to avoid positive ACK-implosion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s with different send rates serve different groups of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7B1-FABD-450D-B639-C2E1FC1D7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Prototy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C627-FC4D-408C-876D-3E382956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25" name="Picture 6" descr="multicast-VC.png"/>
          <p:cNvPicPr/>
          <p:nvPr/>
        </p:nvPicPr>
        <p:blipFill>
          <a:blip r:embed="rId1"/>
          <a:stretch/>
        </p:blipFill>
        <p:spPr>
          <a:xfrm>
            <a:off x="304920" y="1579680"/>
            <a:ext cx="4863960" cy="4516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952880" y="1523520"/>
            <a:ext cx="367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blocks of a message are encapsulated in UDP packets to be multicast over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s written to disk using offset (out of sequence wri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s send  retransmission requests to the sender over unicast TCP conn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has multiple retransmission threads each with a unicast TCP connection to a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erimental Testb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ulab Testb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ted at the University of Uta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des (both high-end and low-end) connected by high-end switches an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end nodes (D710 series):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4 GHz 64-bit Quad Core Xeon E5530, 12 GB RAM, 1 G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w-end nodes (PC600 series)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MHz Intel Pentium III, 256 MB RAM, 100Mbps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0BF5-0D57-47D6-960E-B0AC405F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ion of Multicast Performa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1523520"/>
            <a:ext cx="81532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sender multicasts disk files of different sizes to 7 high-end receiver nodes (D71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MTP is the only user process running on th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ing rate: 6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file size, the data multicast is repeated 10 runs (7 * 10  = 70 recept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BB7-F47F-48B5-B41C-05376AA7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3713040"/>
          <a:ext cx="8001000" cy="238284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218960"/>
                <a:gridCol w="1219320"/>
                <a:gridCol w="1143000"/>
              </a:tblGrid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receptions in no-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9.49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.56 (1.6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5 (0.30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17 (0.87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no-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5.65 (0.81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8.27 (0.7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2.22 (0.98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g. (SD) throughput of loss receptions in loss ru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/A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1.4 (1.7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0.32 (4.94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6.1 (4.43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1"/>
          <p:cNvSpPr/>
          <p:nvPr/>
        </p:nvSpPr>
        <p:spPr>
          <a:xfrm>
            <a:off x="2179800" y="6211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o degradation in throughput for fast receivers in the presence of slow receiver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idFTP usage st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transfer, servers log size, start time, duration, number of parallel streams, stripes, dest I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ge stats are sent via UDP to Globus server from site GridFTP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s can be obtained with permission from Globus or the site itself (e.g., NCAR, SLAC, NERSC, BN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8C6-8F9D-44CF-89E7-C1C72D1FE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ffects of multitasking and SCHED_RR schedul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the VCMTP process is running with other processes on the receiver node, packet loss may occur due to resource sharing (CPU, I/O,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r solution: run the VCMTP process in higher priority than other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ux provides support for process scheduling with soft real-time priority (SCHED_RR mod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eriment, one sender multicasts a 128-MB disk file to X low-end receiver nodes (PC600), where 20% of the X nodes run the VCMTP process along with two other CPU-intensive benchmarks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s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rom the UnixBench su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528-1994-4904-BC21-581D6E490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ffects of multitasking and SCHED_RR scheduling (cont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66680" y="527040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 MB file multicast tests with 5, 10, 15, and 2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 for each exp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t: particular set of “slow” nodes (repeat 5 tim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deviations are shown as numbers in the pl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545-59B2-4362-B301-8C7F83F8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5800" y="151776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597560" y="1517760"/>
            <a:ext cx="38098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3971880" cy="3832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gative of VCMTP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 to select sending 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52388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ransfer experiments with single-sender, single-receiver for both TCP and VCMTP (on D710 nod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different sending rates (800 Mbps and 600 Mbp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file transfer was repeated 10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CDBE-7776-41C4-B199-9380C48DC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876920" y="3962520"/>
          <a:ext cx="4038480" cy="18288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00 Mbp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M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4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26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.04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63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GB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19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.27%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8"/>
          <p:cNvSpPr/>
          <p:nvPr/>
        </p:nvSpPr>
        <p:spPr>
          <a:xfrm>
            <a:off x="4876920" y="35924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Arial"/>
                <a:ea typeface="Arial"/>
              </a:rPr>
              <a:t>Avg. Retransmission Rates for VCMTP</a:t>
            </a:r>
            <a:endParaRPr b="1" lang="en-US" sz="16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tency Analysis for TCP vs. VCMT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15238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 the scenario where a sender sends a message of siz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imum throughput supported by the send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, wh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the link capacity, 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 is maximum sending rate with 100% resource usage (CPU, IO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Similarly, maximum throughput supported by a receiver i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in{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, 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Any one of these four capacity limitations could be the bottlen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250E-AC7E-40CA-9DF4-DDFFE4CB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1724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. Total delay for unicast TC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562720" y="226548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7"/>
          <p:cNvSpPr/>
          <p:nvPr/>
        </p:nvSpPr>
        <p:spPr>
          <a:xfrm>
            <a:off x="5029200" y="4592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d0d0d"/>
                </a:solidFill>
                <a:latin typeface="Comic Sans MS"/>
                <a:ea typeface="Arial"/>
              </a:rPr>
              <a:t>II. Total delay for VCMTP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5562720" y="4992840"/>
            <a:ext cx="3124080" cy="5745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9"/>
          <p:cNvSpPr/>
          <p:nvPr/>
        </p:nvSpPr>
        <p:spPr>
          <a:xfrm>
            <a:off x="5181480" y="3016080"/>
            <a:ext cx="3962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* When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Comic Sans MS"/>
                <a:ea typeface="Arial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  <a:ea typeface="Arial"/>
              </a:rPr>
              <a:t> is the bottleneck, the total delay for unicast TCP can be reduced by running multiple sender servers in parallel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1523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the case where s = 125 MB, n = 50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 Gbps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100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894-09A0-4C2D-B50C-BB846F074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304920" y="2554200"/>
            <a:ext cx="457200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I. For unicast TCP, r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is the bottleneck for the message distribution (although each receiver link capacity is only 100Mbps, the total throughput that can be supported to all receivers is 100 Mbps * 50 = 5 Gbps ).Therefore, the total delay using unicast TCP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* 50 / 1 Gbps = 5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219320" y="541656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chieve the same total latency, 5 servers are needed at the sending side for unicast TCP (each sender can simultaneously send the message to 10 receivers) 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4876920" y="2554200"/>
            <a:ext cx="42670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. For VCMTP, the bottleneck for the message multicast is the receiver link capacity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c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Hence the total delay is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125 MB * 8 / 100 Mbps = 10 sec</a:t>
            </a:r>
            <a:endParaRPr b="1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steps for analys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unicast TCP over IP-routed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es at routers due to competing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oss rates due to overprovis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VCM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scheduling of VCMTP process reduces receive buffer losses to low r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69B-B70B-44E2-80F7-21D967CF6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CMTP summ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iable multicast transport protocol appears to be scalable if underlying network offers VC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-speed transfers requires VCMTP processes to be run in high-priority mode if sender/receivers are multitas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CMTP can both reduce bandwidth usage and the overall delay for some large-scale, long-duration data distribution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EC7-7C08-459F-A944-FE3DA092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Y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mitted proposal to Internet2 for UVA to become a DYNES end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d science users: LHC CMS physicist, Brad Cox, and biologist, Mike Timko at UVA – willing to try DY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DYNES for VCMTP tes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ogs in multipl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to use NDDI OpenFlow for multipoint (ION for 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2F8C-D024-43D7-9849-F68BC62AB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“sessions” from transf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 scientist uses shell scripts to move “Lots of Small Files (LOSF)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GridFTP usage stats, need an algorithm to “merge” transfers into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simultaneous transfers; look for last completi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next transfer’s start time is within 1 minute of completion time, we assume it is part of the same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95F5-E0BE-42C9-BD96-67AD09746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CAR-NICS GridFTP d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6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8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650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89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07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8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4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2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5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4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F2D-B674-4AD9-AA23-D22C96111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09-2011, but only two user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duration session was 13 hrs 27 mins (48420 s) but size was only 2.4 TB (rate: 410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-size session (2.7 TB) took 7.5 hours (808 Mbps)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6.9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5.5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1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2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5"/>
          <p:cNvSpPr/>
          <p:nvPr/>
        </p:nvSpPr>
        <p:spPr>
          <a:xfrm>
            <a:off x="2426040" y="6399360"/>
            <a:ext cx="430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John Dennis and Matt Woitaszek, NCAR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AC-BNL GridFTP usage logs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MB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7924680" cy="1925640"/>
        </p:xfrm>
        <a:graphic>
          <a:graphicData uri="http://schemas.openxmlformats.org/drawingml/2006/table">
            <a:tbl>
              <a:tblPr/>
              <a:tblGrid>
                <a:gridCol w="1219320"/>
                <a:gridCol w="1044360"/>
                <a:gridCol w="1131840"/>
                <a:gridCol w="1133640"/>
                <a:gridCol w="1131840"/>
                <a:gridCol w="1020960"/>
                <a:gridCol w="124272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ion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size (MB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34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30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0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9500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ual durations (sec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.8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2.1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82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625-6AB1-496D-99C1-12F1C0907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Content Placeholder 2"/>
          <p:cNvSpPr/>
          <p:nvPr/>
        </p:nvSpPr>
        <p:spPr>
          <a:xfrm>
            <a:off x="838080" y="46483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transfers much larger than NCAR-NICS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quartile throughput much smaller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  <a:p>
            <a:pPr lvl="1"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te that the session that is “max” from a size perspective is not necessarily the one that is “max” from a duration perspective</a:t>
            </a:r>
            <a:endParaRPr b="1" lang="en-US" sz="2000" spc="-1" strike="noStrike">
              <a:solidFill>
                <a:srgbClr val="ffcc99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581280"/>
          <a:ext cx="7924680" cy="1011240"/>
        </p:xfrm>
        <a:graphic>
          <a:graphicData uri="http://schemas.openxmlformats.org/drawingml/2006/table">
            <a:tbl>
              <a:tblPr/>
              <a:tblGrid>
                <a:gridCol w="1447920"/>
                <a:gridCol w="815760"/>
                <a:gridCol w="1131840"/>
                <a:gridCol w="1133640"/>
                <a:gridCol w="1131840"/>
                <a:gridCol w="1020960"/>
                <a:gridCol w="12427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fers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an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Qu.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roughput (Mbps)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01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.12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 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6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.3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0</a:t>
                      </a:r>
                      <a:endParaRPr b="1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3174840" y="639936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hanks to Yee Ting Li and Wei Yang, SLAC </a:t>
            </a:r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% of sessions for which dynamic VCs are suit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AR-NICS (2009-201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17 sessions from 52519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% of &gt;=100MB sessions would &gt; 10mins if they experienced third quartile throughput of 681.7 M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st session: 13.5 hrs; size: 2.4TB (410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size session: 2.7 TB; dur = 7.5 hours (808M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AC-BNL (Feb. 10-24, 20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put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rtile: 191 Mbps; max: 1.93 Gb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233 sessions from 133,346 trans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77 sessions &gt;= 100M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.4% of sessions would have lasted longer than 10 mins if they had experienced a throughput of 19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620120" y="6095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3B9-052E-400E-A344-7886A44D5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50:21Z</dcterms:created>
  <dc:creator>Malathi Veeraraghavan</dc:creator>
  <dc:description/>
  <dc:language>en-US</dc:language>
  <cp:lastModifiedBy>Malathi Veeraraghavan</cp:lastModifiedBy>
  <dcterms:modified xsi:type="dcterms:W3CDTF">2012-03-22T15:32:05Z</dcterms:modified>
  <cp:revision>1523</cp:revision>
  <dc:subject/>
  <dc:title>PowerPoint Presentation</dc:title>
</cp:coreProperties>
</file>